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5.jpeg" ContentType="image/jpeg"/>
  <Override PartName="/ppt/media/image8.jpeg" ContentType="image/jpeg"/>
  <Override PartName="/ppt/media/image35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24.wmf" ContentType="image/x-wmf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4DB6-4D03-40D9-BF80-D61CB9B5A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philos.msu.ru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F0C8-1FA9-495C-B062-A5F27FD6D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программы курса. Программа курса размещена на сайте философского факультета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HILOS.MSU.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Учебный отдел/Методическое обеспечение учебных курсов/каф. Философии и методологии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конспектов лекций по курсу в отдельной тетр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е текущих работ по темам курса на лек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C0CC-68CE-4D9B-9FD0-2B345231F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миниатюр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ждение вещества в наноматериала в особом «наноразмерном» состоя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1F69-FC84-40B2-BAA7-2307B3FAE9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ие микроск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7C4D-993C-40C2-9360-3C28343A6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47CA-3018-4E25-BFC2-BAC080FC5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47E2-FA3D-4073-A0CD-AA62DEB4B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C16E-8EBD-4122-8734-F02679074D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19A7-9707-4128-9D1E-168623355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2757-18C4-4543-B57E-F8EBD0AC13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арно-силово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М позволяет получать изображения с очень высокой степенью точности (впл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0-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5854-B8FC-4CDA-BB9F-956219FA4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верху-вниз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1AC7-0A1D-4FC7-854C-A7D1598A0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6979-148C-465C-A0D4-BAC5AEAD2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зач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3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4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декабря(сред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2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30-19.00          Группа 106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декабря(четв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1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5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5.30-17.00          студенты всех групп                                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та будет уточн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сто проведения заче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омоносовский проспект, д.27, корпус 4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 включ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рку конспектов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зачете с собой необходимо иметь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ную книжку, студенческий би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спекты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таростам групп взять в учебной части зачетную ведомость на групп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2A2D-5E41-4298-943F-16F03FA77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ллер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067E-E37C-4A10-85BE-7DA3DC5F50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являются новой формой углерода, открытой в 199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5E75-E302-4F8C-ABDB-155388343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нтовая т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нтовая точка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1EFF-5A6E-42BB-AF34-9AA49CC91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биологии и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нтереса к применению наносистем в биологии и медици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перемещаться внутри живых организмов и проникать внутрь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8CB1-2FC7-4D99-A68D-90B3E740BD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дей «индивидуальной»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лекарственных препаратов с новым механизмом действи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искусственных тканей и органов, не вызывающих реакцию оттор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5FF1-EC42-4BE7-8956-BD00C7470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798-BE2C-40C4-8AFD-FACAAFB13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2222-6581-4E96-BE32-AACCCA633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DEFD-26FE-4B3D-9C2B-3555166D0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A380-0506-4DA6-84C9-55AC7383A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12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0D29-4ACC-44B2-B86A-04BACBDD1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«НАНОНАУКА» и «НАНОТЕХН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применения нано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57B9-FC12-41C3-AE75-8980C11A4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иозины   кинезины   дине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7335-7E31-4DDA-959A-3647C61EE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и в медиц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9D75-86BD-47E9-A0FF-A3DE13E0F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257D-C6A4-4587-8A94-D0F24957E0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с очень малым энергопотреб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рманные» супер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инающие устройства нового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характеристик ЭВМ на три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A0CA-3DE2-46B8-BBC6-0EDBAACF4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39B3-B191-4A3C-8546-CF7706EA1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типа произво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возможности контроля за состоянием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1095-8DCA-4130-92B7-5EF47DAD9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проблемы нехватки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табильного и достаточного сельскохозяйственн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применение техники ДНК-чипов и ДНК-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F72C-BA19-49F0-A494-F1340E75E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79A8-3564-482C-86A3-B69577D68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траченные из бюджета разных стран на нанотехнологии в 1997-2005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8BCC-97B5-459B-A37C-35D4A6B3D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. Нанотехнологии. Наносистемная техника М.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8AED-07E6-48A0-B251-DAFABD40C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раз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шта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нм =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DB1C-0BB1-4203-8DC5-51F1F5788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6E5D-951C-4374-9F2A-4CDDA3665E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023-7037-427A-9367-8776D1078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: хронолог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54E6-0C0E-49E2-9068-5B0C5F313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применения нано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самая междисциплинарная отрас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C701-DD38-432F-9496-B0739E749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пористые 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рубки и нановолок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дисперсии (ко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труктурированные поверхности и пл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ристал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ласт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A52-2411-4E99-8BC1-0ED0AAD2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98E-ABBB-4A3B-BC63-D13A3A28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637-3CAB-4BF1-B225-158783B6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200-8F11-4B52-85FB-1CB7376A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E180-997A-499E-8690-EE771A33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F42C-7C43-4B64-B521-CEAC6A27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CCE9-4DA6-42FA-B82B-678CE6AD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B479-1D53-40DC-A963-E2697525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75CA-7DB8-42BA-84AC-6168ADFA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456F-8175-4C81-B524-73B33ACF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F842-F83B-4291-AE85-4FF3D0A5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0ED-F133-4591-A12C-0C0E32D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3F6B-EDA3-46DD-B478-B4DC2E9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5100-A836-423C-A9FD-56D394DB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84AE-E138-414D-A848-03D27F12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163C-69D2-4837-9FD9-CAF54C25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6AC5-26EE-405D-87E0-C6A10EF2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2FF-0861-4E15-AF2F-65EFDF38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24D-7586-43B1-A68B-20899A4D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4FA-57A5-4335-A1D9-CF4E3937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000-3890-40D8-9FC3-477233A9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28C-AE93-45A3-A33E-6B06A2BE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9C4-95E2-4AC3-AEA8-2533840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C50-9199-43F7-BF74-8B1A55E8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1E7F-BA77-4A7E-947D-C6D5EE1C50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77CB-A030-48CD-B3A3-4A198D13B5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программы курса. Программа курса размещена на сайте философского факультета в разделе Учебный отдел/Методическое обеспечение учебных курсов/каф. Философии и методологии нау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конспектов лекций по курсу в отдельной тетрад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ение текущих работ по темам курса на лекция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j0217698"/>
          <p:cNvPicPr/>
          <p:nvPr/>
        </p:nvPicPr>
        <p:blipFill>
          <a:blip r:embed="rId1"/>
          <a:stretch/>
        </p:blipFill>
        <p:spPr>
          <a:xfrm>
            <a:off x="7020000" y="4797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войства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перминиатюризац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хождение вещества в наноматериала в особом «наноразмерном» состоян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тические микроскоп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microscope"/>
          <p:cNvPicPr/>
          <p:nvPr/>
        </p:nvPicPr>
        <p:blipFill>
          <a:blip r:embed="rId1"/>
          <a:stretch/>
        </p:blipFill>
        <p:spPr>
          <a:xfrm>
            <a:off x="5788080" y="2424240"/>
            <a:ext cx="2201760" cy="291924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8920" y="1827360"/>
            <a:ext cx="391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просвеч электронный микроскоп"/>
          <p:cNvPicPr/>
          <p:nvPr/>
        </p:nvPicPr>
        <p:blipFill>
          <a:blip r:embed="rId1"/>
          <a:stretch/>
        </p:blipFill>
        <p:spPr>
          <a:xfrm>
            <a:off x="1895400" y="2152800"/>
            <a:ext cx="2538360" cy="3463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сканирующий зондовый"/>
          <p:cNvPicPr/>
          <p:nvPr/>
        </p:nvPicPr>
        <p:blipFill>
          <a:blip r:embed="rId1"/>
          <a:stretch/>
        </p:blipFill>
        <p:spPr>
          <a:xfrm>
            <a:off x="6851520" y="3854520"/>
            <a:ext cx="74880" cy="6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сканирэектр микроскоп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электронный зондовый"/>
          <p:cNvPicPr/>
          <p:nvPr/>
        </p:nvPicPr>
        <p:blipFill>
          <a:blip r:embed="rId1"/>
          <a:stretch/>
        </p:blipFill>
        <p:spPr>
          <a:xfrm>
            <a:off x="5219640" y="2349360"/>
            <a:ext cx="313524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1а"/>
          <p:cNvPicPr/>
          <p:nvPr/>
        </p:nvPicPr>
        <p:blipFill>
          <a:blip r:embed="rId1"/>
          <a:stretch/>
        </p:blipFill>
        <p:spPr>
          <a:xfrm>
            <a:off x="5094360" y="2433600"/>
            <a:ext cx="3589200" cy="2901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уннельный эффе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0120" y="182736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anotech0018"/>
          <p:cNvPicPr/>
          <p:nvPr/>
        </p:nvPicPr>
        <p:blipFill>
          <a:blip r:embed="rId1"/>
          <a:stretch/>
        </p:blipFill>
        <p:spPr>
          <a:xfrm>
            <a:off x="1042920" y="2133720"/>
            <a:ext cx="3960720" cy="3382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томарно-силово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СМ позволяет получать изображения с очень высокой степенью точности (вплоть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 </a:t>
            </a:r>
            <a:r>
              <a:rPr b="0" lang="ru-RU" sz="1900" spc="-1" strike="noStrike" baseline="30000">
                <a:solidFill>
                  <a:srgbClr val="000000"/>
                </a:solidFill>
                <a:latin typeface="Verdana"/>
              </a:rPr>
              <a:t>10-10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2"/>
          <p:cNvPicPr/>
          <p:nvPr/>
        </p:nvPicPr>
        <p:blipFill>
          <a:blip r:embed="rId1"/>
          <a:stretch/>
        </p:blipFill>
        <p:spPr>
          <a:xfrm>
            <a:off x="5094360" y="2502000"/>
            <a:ext cx="3589200" cy="2763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980720"/>
            <a:ext cx="18000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верху-вниз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низу-ввер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0008"/>
          <p:cNvPicPr/>
          <p:nvPr/>
        </p:nvPicPr>
        <p:blipFill>
          <a:blip r:embed="rId1"/>
          <a:stretch/>
        </p:blipFill>
        <p:spPr>
          <a:xfrm>
            <a:off x="3132000" y="1557360"/>
            <a:ext cx="6012000" cy="4581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мер нанотехнологии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«снизу-вверх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4" descr="0002"/>
          <p:cNvPicPr/>
          <p:nvPr/>
        </p:nvPicPr>
        <p:blipFill>
          <a:blip r:embed="rId1"/>
          <a:stretch/>
        </p:blipFill>
        <p:spPr>
          <a:xfrm>
            <a:off x="2124000" y="1941480"/>
            <a:ext cx="5184720" cy="4916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я о зачет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412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3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4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4 декабря(среда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2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7.30-19.00          Группа 106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5 декабря(четверг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1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5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9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15.30-17.00          студенты всех групп                                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та будет уточне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проведения заче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моносовский проспект, д.27, корпус 4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 включа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верку конспектов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 зачете с собой необходимо имет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ную книжку, студенческий биле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нспекты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аростам групп взять в учебной части зачетную ведомость на груп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уллере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nanotech0019"/>
          <p:cNvPicPr/>
          <p:nvPr/>
        </p:nvPicPr>
        <p:blipFill>
          <a:blip r:embed="rId1"/>
          <a:stretch/>
        </p:blipFill>
        <p:spPr>
          <a:xfrm>
            <a:off x="5495760" y="1987560"/>
            <a:ext cx="2792520" cy="166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nanotech0021"/>
          <p:cNvPicPr/>
          <p:nvPr/>
        </p:nvPicPr>
        <p:blipFill>
          <a:blip r:embed="rId2"/>
          <a:stretch/>
        </p:blipFill>
        <p:spPr>
          <a:xfrm>
            <a:off x="5484960" y="3960720"/>
            <a:ext cx="2814480" cy="19814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мер нанотехнологии «снизу-вверх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ни являются новой формой углерода, открытой в 1991 год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7" descr="3"/>
          <p:cNvPicPr/>
          <p:nvPr/>
        </p:nvPicPr>
        <p:blipFill>
          <a:blip r:embed="rId1"/>
          <a:stretch/>
        </p:blipFill>
        <p:spPr>
          <a:xfrm>
            <a:off x="5110200" y="2587680"/>
            <a:ext cx="3552840" cy="25923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вантовая точ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вантовая точка -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1"/>
          <p:cNvPicPr/>
          <p:nvPr/>
        </p:nvPicPr>
        <p:blipFill>
          <a:blip r:embed="rId1"/>
          <a:stretch/>
        </p:blipFill>
        <p:spPr>
          <a:xfrm>
            <a:off x="5114880" y="1827360"/>
            <a:ext cx="354816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биологии и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чины интереса к применению наносистем в биологии и медицине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перемещаться внутри живых организмов и проникать внутрь клеток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ализация идей «индивидуальной» медицин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работка лекарственных препаратов с новым механизмом действия 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изводство искусственных тканей и органов, не вызывающих реакцию отторж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fig16"/>
          <p:cNvPicPr/>
          <p:nvPr/>
        </p:nvPicPr>
        <p:blipFill>
          <a:blip r:embed="rId1"/>
          <a:stretch/>
        </p:blipFill>
        <p:spPr>
          <a:xfrm>
            <a:off x="227160" y="2109960"/>
            <a:ext cx="3097080" cy="31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23" name="Rectangle 3"/>
          <p:cNvSpPr/>
          <p:nvPr/>
        </p:nvSpPr>
        <p:spPr>
          <a:xfrm>
            <a:off x="-63360" y="92160"/>
            <a:ext cx="93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3621240" y="2187720"/>
            <a:ext cx="5256000" cy="2947680"/>
            <a:chOff x="3621240" y="2187720"/>
            <a:chExt cx="5256000" cy="2947680"/>
          </a:xfrm>
        </p:grpSpPr>
        <p:pic>
          <p:nvPicPr>
            <p:cNvPr id="225" name="Picture 5" descr="fig15"/>
            <p:cNvPicPr/>
            <p:nvPr/>
          </p:nvPicPr>
          <p:blipFill>
            <a:blip r:embed="rId2"/>
            <a:stretch/>
          </p:blipFill>
          <p:spPr>
            <a:xfrm>
              <a:off x="3621240" y="2187720"/>
              <a:ext cx="5256000" cy="2947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</p:pic>
        <p:sp>
          <p:nvSpPr>
            <p:cNvPr id="226" name="Rectangle 6"/>
            <p:cNvSpPr/>
            <p:nvPr/>
          </p:nvSpPr>
          <p:spPr>
            <a:xfrm>
              <a:off x="3666960" y="2214360"/>
              <a:ext cx="29556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5923080" y="2214360"/>
              <a:ext cx="29520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Rectangle 8"/>
          <p:cNvSpPr/>
          <p:nvPr/>
        </p:nvSpPr>
        <p:spPr>
          <a:xfrm>
            <a:off x="4530600" y="62164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Daha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et al.,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Science302:442–445,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39840" y="187920"/>
            <a:ext cx="86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635040" y="2203560"/>
            <a:ext cx="7689960" cy="2492280"/>
            <a:chOff x="635040" y="2203560"/>
            <a:chExt cx="7689960" cy="2492280"/>
          </a:xfrm>
        </p:grpSpPr>
        <p:pic>
          <p:nvPicPr>
            <p:cNvPr id="232" name="Picture 4" descr="fig18"/>
            <p:cNvPicPr/>
            <p:nvPr/>
          </p:nvPicPr>
          <p:blipFill>
            <a:blip r:embed="rId1">
              <a:lum contrast="8000"/>
            </a:blip>
            <a:srcRect l="0" t="0" r="0" b="51101"/>
            <a:stretch/>
          </p:blipFill>
          <p:spPr>
            <a:xfrm>
              <a:off x="635040" y="2203560"/>
              <a:ext cx="5138640" cy="24894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  <p:pic>
          <p:nvPicPr>
            <p:cNvPr id="233" name="Picture 5" descr="fig18"/>
            <p:cNvPicPr/>
            <p:nvPr/>
          </p:nvPicPr>
          <p:blipFill>
            <a:blip r:embed="rId2">
              <a:lum contrast="8000"/>
            </a:blip>
            <a:srcRect l="50282" t="50519" r="0" b="0"/>
            <a:stretch/>
          </p:blipFill>
          <p:spPr>
            <a:xfrm>
              <a:off x="5796000" y="2203560"/>
              <a:ext cx="2529000" cy="24922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</p:grp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01760" y="2119320"/>
            <a:ext cx="8348400" cy="36068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fig1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52440" y="1700280"/>
            <a:ext cx="6762960" cy="4270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39" name="Rectangle 3"/>
          <p:cNvSpPr/>
          <p:nvPr/>
        </p:nvSpPr>
        <p:spPr>
          <a:xfrm>
            <a:off x="0" y="96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838600" y="6389640"/>
            <a:ext cx="63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Ginger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DS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et al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, Angew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Chem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ngl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43:30–45,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84320" y="1447920"/>
            <a:ext cx="5254560" cy="4495680"/>
          </a:xfrm>
          <a:prstGeom prst="rect">
            <a:avLst/>
          </a:prstGeom>
          <a:solidFill>
            <a:srgbClr val="abd5ff"/>
          </a:solidFill>
          <a:ln w="4752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5800" y="228600"/>
            <a:ext cx="7924680" cy="1004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28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2095560" y="1486080"/>
          <a:ext cx="246204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1486080"/>
                    <a:ext cx="24620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4879800" y="1486080"/>
          <a:ext cx="2384640" cy="44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1486080"/>
                    <a:ext cx="23846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6"/>
          <p:cNvSpPr/>
          <p:nvPr/>
        </p:nvSpPr>
        <p:spPr>
          <a:xfrm>
            <a:off x="1905120" y="6019920"/>
            <a:ext cx="24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о инъекции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114800" y="60199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Через 8 нед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нятия «НАНОНАУКА» и «НАНОТЕХНОЛОГИЯ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феры применения нанотехнолог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00160" y="2060640"/>
            <a:ext cx="8723160" cy="4602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200" y="187200"/>
            <a:ext cx="8902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71760" y="2214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озины   кинезины   дине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5"/>
          <p:cNvGraphicFramePr/>
          <p:nvPr/>
        </p:nvGraphicFramePr>
        <p:xfrm>
          <a:off x="557280" y="4040280"/>
          <a:ext cx="347832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40280"/>
                    <a:ext cx="3478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1965240" y="4059360"/>
            <a:ext cx="11350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137040" y="4076640"/>
            <a:ext cx="113004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ESSENTIA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238400" y="575316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ози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703440" y="3848040"/>
            <a:ext cx="118440" cy="173160"/>
            <a:chOff x="703440" y="3848040"/>
            <a:chExt cx="118440" cy="173160"/>
          </a:xfrm>
        </p:grpSpPr>
        <p:sp>
          <p:nvSpPr>
            <p:cNvPr id="260" name="Rectangle 10"/>
            <p:cNvSpPr/>
            <p:nvPr/>
          </p:nvSpPr>
          <p:spPr>
            <a:xfrm>
              <a:off x="703440" y="3848040"/>
              <a:ext cx="727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705240" y="3855240"/>
              <a:ext cx="116640" cy="12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785880" y="3828960"/>
            <a:ext cx="3422160" cy="160200"/>
            <a:chOff x="785880" y="3828960"/>
            <a:chExt cx="3422160" cy="160200"/>
          </a:xfrm>
        </p:grpSpPr>
        <p:graphicFrame>
          <p:nvGraphicFramePr>
            <p:cNvPr id="263" name="Object 13"/>
            <p:cNvGraphicFramePr/>
            <p:nvPr/>
          </p:nvGraphicFramePr>
          <p:xfrm>
            <a:off x="2440080" y="3829680"/>
            <a:ext cx="1767960" cy="15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40080" y="3829680"/>
                      <a:ext cx="176796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4"/>
            <p:cNvGraphicFramePr/>
            <p:nvPr/>
          </p:nvGraphicFramePr>
          <p:xfrm>
            <a:off x="785880" y="3828960"/>
            <a:ext cx="1759680" cy="15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5880" y="3828960"/>
                      <a:ext cx="1759680" cy="15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Text Box 15"/>
          <p:cNvSpPr/>
          <p:nvPr/>
        </p:nvSpPr>
        <p:spPr>
          <a:xfrm>
            <a:off x="304560" y="37720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7 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479240" y="33447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к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299736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465120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754160" y="602604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е полимеров актина по стекл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рытому миозин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MV__20.wmv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3852720" cy="30830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3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и в медицин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" descr="nanotech0014"/>
          <p:cNvPicPr/>
          <p:nvPr/>
        </p:nvPicPr>
        <p:blipFill>
          <a:blip r:embed="rId1"/>
          <a:stretch/>
        </p:blipFill>
        <p:spPr>
          <a:xfrm>
            <a:off x="3708360" y="4221000"/>
            <a:ext cx="4605480" cy="212112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наноробот"/>
          <p:cNvPicPr/>
          <p:nvPr/>
        </p:nvPicPr>
        <p:blipFill>
          <a:blip r:embed="rId1"/>
          <a:stretch/>
        </p:blipFill>
        <p:spPr>
          <a:xfrm>
            <a:off x="533520" y="38336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наноробот"/>
          <p:cNvPicPr/>
          <p:nvPr/>
        </p:nvPicPr>
        <p:blipFill>
          <a:blip r:embed="rId2"/>
          <a:stretch/>
        </p:blipFill>
        <p:spPr>
          <a:xfrm>
            <a:off x="4911840" y="2558880"/>
            <a:ext cx="3830400" cy="24624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81800" y="63144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. Свидиненко , nanotech-now.c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961160" y="539028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Julian Baum/Science Photo Librar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985120" y="329400"/>
            <a:ext cx="33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7" descr="наноробот2bmp"/>
          <p:cNvPicPr/>
          <p:nvPr/>
        </p:nvPicPr>
        <p:blipFill>
          <a:blip r:embed="rId3"/>
          <a:stretch/>
        </p:blipFill>
        <p:spPr>
          <a:xfrm>
            <a:off x="507960" y="1271520"/>
            <a:ext cx="3206880" cy="24051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14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тройства с очень малым энергопотреблени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Карманные» суперЭВ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поминающие устройства нового тип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вышение характеристик ЭВМ на три поряд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4"/>
          <p:cNvPicPr/>
          <p:nvPr/>
        </p:nvPicPr>
        <p:blipFill>
          <a:blip r:embed="rId1"/>
          <a:stretch/>
        </p:blipFill>
        <p:spPr>
          <a:xfrm>
            <a:off x="4932360" y="1557360"/>
            <a:ext cx="33354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5"/>
          <p:cNvPicPr/>
          <p:nvPr/>
        </p:nvPicPr>
        <p:blipFill>
          <a:blip r:embed="rId1"/>
          <a:stretch/>
        </p:blipFill>
        <p:spPr>
          <a:xfrm>
            <a:off x="5165640" y="1827360"/>
            <a:ext cx="3444840" cy="41148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23112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нового типа производст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вые возможности контроля за состоянием сре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сельском хозяйств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ение проблемы нехватки пит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стабильного и достаточного сельскохозяйственного производ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кое применение техники ДНК-чипов и ДНК-анализ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едства, потраченные из бюджета разных стран на нанотехнологии в 1997-2005 года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9" descr="nanotech0012"/>
          <p:cNvPicPr/>
          <p:nvPr/>
        </p:nvPicPr>
        <p:blipFill>
          <a:blip r:embed="rId1"/>
          <a:stretch/>
        </p:blipFill>
        <p:spPr>
          <a:xfrm>
            <a:off x="5100480" y="2762280"/>
            <a:ext cx="3583080" cy="224460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53800" y="1827360"/>
            <a:ext cx="57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материалы. Нанотехнологии. Наносистемная техника М.200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6" descr="Наноматериалы. Нанотехнологии. Наносистемная техни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844640"/>
            <a:ext cx="1540080" cy="2232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00000005976883_267_1"/>
          <p:cNvPicPr/>
          <p:nvPr/>
        </p:nvPicPr>
        <p:blipFill>
          <a:blip r:embed="rId3"/>
          <a:stretch/>
        </p:blipFill>
        <p:spPr>
          <a:xfrm>
            <a:off x="971640" y="4365720"/>
            <a:ext cx="1338120" cy="2087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размеры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17680" y="2050920"/>
            <a:ext cx="26589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нано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значае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мен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сштаб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нм =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0001"/>
          <p:cNvPicPr/>
          <p:nvPr/>
        </p:nvPicPr>
        <p:blipFill>
          <a:blip r:embed="rId1"/>
          <a:stretch/>
        </p:blipFill>
        <p:spPr>
          <a:xfrm>
            <a:off x="4067280" y="1268280"/>
            <a:ext cx="475272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8480" y="455400"/>
            <a:ext cx="6678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5840" y="2487600"/>
            <a:ext cx="9181080" cy="3561840"/>
            <a:chOff x="15840" y="2487600"/>
            <a:chExt cx="9181080" cy="3561840"/>
          </a:xfrm>
        </p:grpSpPr>
        <p:sp>
          <p:nvSpPr>
            <p:cNvPr id="114" name="Rectangle 5"/>
            <p:cNvSpPr/>
            <p:nvPr/>
          </p:nvSpPr>
          <p:spPr>
            <a:xfrm>
              <a:off x="6859440" y="4249800"/>
              <a:ext cx="1924200" cy="5364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961320" y="4275360"/>
              <a:ext cx="1756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ногоклеточн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рганизмы    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(1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m &gt;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27672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04020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82240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254304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4729320" y="4230720"/>
              <a:ext cx="1828800" cy="809640"/>
            </a:xfrm>
            <a:prstGeom prst="rect">
              <a:avLst/>
            </a:prstGeom>
            <a:solidFill>
              <a:srgbClr val="9bdeff"/>
            </a:solidFill>
            <a:ln w="28440">
              <a:solidFill>
                <a:srgbClr val="9bde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2444760" y="4257720"/>
              <a:ext cx="1828800" cy="714240"/>
            </a:xfrm>
            <a:prstGeom prst="rect">
              <a:avLst/>
            </a:prstGeom>
            <a:solidFill>
              <a:srgbClr val="b00000"/>
            </a:solidFill>
            <a:ln w="28440">
              <a:solidFill>
                <a:srgbClr val="b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2438280" y="4268880"/>
              <a:ext cx="24544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Белки, ДН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РНК,  антитела,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вирусы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1 -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3" name="Group 14"/>
            <p:cNvGrpSpPr/>
            <p:nvPr/>
          </p:nvGrpSpPr>
          <p:grpSpPr>
            <a:xfrm>
              <a:off x="301680" y="4214880"/>
              <a:ext cx="1925640" cy="520560"/>
              <a:chOff x="301680" y="4214880"/>
              <a:chExt cx="1925640" cy="520560"/>
            </a:xfrm>
          </p:grpSpPr>
          <p:sp>
            <p:nvSpPr>
              <p:cNvPr id="124" name="Rectangle 15"/>
              <p:cNvSpPr/>
              <p:nvPr/>
            </p:nvSpPr>
            <p:spPr>
              <a:xfrm>
                <a:off x="320760" y="4250160"/>
                <a:ext cx="1752480" cy="3114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301680" y="4214880"/>
                <a:ext cx="192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Атом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(0,1-0,5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Text Box 17"/>
            <p:cNvSpPr/>
            <p:nvPr/>
          </p:nvSpPr>
          <p:spPr>
            <a:xfrm>
              <a:off x="4692240" y="4253040"/>
              <a:ext cx="1870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Бактерии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0,1 -1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Эритроциты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Яйцеклетк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человека   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4560840" y="5348160"/>
              <a:ext cx="25812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Видимый свет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Инфракрасны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Лучи</a:t>
              </a:r>
              <a:r>
                <a:rPr b="1" lang="en-US" sz="1400" spc="-1" strike="noStrike">
                  <a:solidFill>
                    <a:srgbClr val="a7e9a7"/>
                  </a:solidFill>
                  <a:latin typeface="Arial"/>
                </a:rPr>
                <a:t>                   </a:t>
              </a: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246960" y="534816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Рентгеновско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излуч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0,1-1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2142720" y="534816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Ультрафиолет</a:t>
              </a: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10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930360" y="534816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Микроволны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>
              <a:off x="6738840" y="3365640"/>
              <a:ext cx="180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890748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15840" y="3006720"/>
              <a:ext cx="91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13824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2131200" y="3017880"/>
              <a:ext cx="84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9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ff37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34340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6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544800" y="3017880"/>
              <a:ext cx="81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54024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7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2162160" y="248760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Н а н о ш к а л а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31"/>
            <p:cNvSpPr/>
            <p:nvPr/>
          </p:nvSpPr>
          <p:spPr>
            <a:xfrm rot="16200000">
              <a:off x="3032640" y="2108520"/>
              <a:ext cx="203400" cy="164304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42840 h 1643040"/>
                <a:gd name="textAreaBottom" fmla="*/ 16002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3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32"/>
            <p:cNvSpPr/>
            <p:nvPr/>
          </p:nvSpPr>
          <p:spPr>
            <a:xfrm>
              <a:off x="451656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33"/>
            <p:cNvSpPr/>
            <p:nvPr/>
          </p:nvSpPr>
          <p:spPr>
            <a:xfrm>
              <a:off x="37893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34"/>
            <p:cNvSpPr/>
            <p:nvPr/>
          </p:nvSpPr>
          <p:spPr>
            <a:xfrm>
              <a:off x="23385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136440" y="3743280"/>
              <a:ext cx="2206800" cy="14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566560" y="301788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37"/>
            <p:cNvSpPr/>
            <p:nvPr/>
          </p:nvSpPr>
          <p:spPr>
            <a:xfrm>
              <a:off x="354312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2332080" y="3743280"/>
              <a:ext cx="2206440" cy="149400"/>
            </a:xfrm>
            <a:prstGeom prst="rect">
              <a:avLst/>
            </a:prstGeom>
            <a:solidFill>
              <a:srgbClr val="b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4529160" y="3743280"/>
              <a:ext cx="2206440" cy="149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729480" y="3729240"/>
              <a:ext cx="2206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: хронолог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3" descr="0005"/>
          <p:cNvPicPr/>
          <p:nvPr/>
        </p:nvPicPr>
        <p:blipFill>
          <a:blip r:embed="rId1"/>
          <a:stretch/>
        </p:blipFill>
        <p:spPr>
          <a:xfrm>
            <a:off x="2771640" y="1760400"/>
            <a:ext cx="4891320" cy="50976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спективы применения нанотехноло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625400"/>
            <a:ext cx="2160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нотехнология самая междисциплинарная отрас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0003"/>
          <p:cNvPicPr/>
          <p:nvPr/>
        </p:nvPicPr>
        <p:blipFill>
          <a:blip r:embed="rId1"/>
          <a:stretch/>
        </p:blipFill>
        <p:spPr>
          <a:xfrm>
            <a:off x="2843280" y="1628640"/>
            <a:ext cx="5796000" cy="4786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ипы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пористые структу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частиц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трубки и нановолок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дисперсии (коллоид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структурированные поверхности и пл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ристалл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ласте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09:52Z</dcterms:created>
  <dc:creator>EDU-1</dc:creator>
  <dc:description/>
  <dc:language>en-US</dc:language>
  <cp:lastModifiedBy>RomaK</cp:lastModifiedBy>
  <dcterms:modified xsi:type="dcterms:W3CDTF">2014-10-31T13:39:05Z</dcterms:modified>
  <cp:revision>36</cp:revision>
  <dc:subject/>
  <dc:title>НАНО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